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FEB-0385-463D-AE9F-019D124D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B48-50DB-4B28-BFF7-B7951DB8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A77-A503-45D1-AD0C-483D9D13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332-5A92-455E-8B11-B642B996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3C5-9AD7-478E-A0A1-1B7A4E4C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14BF-F71D-4B35-8BF7-FF4DC6C0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E4D5-9F39-4FA2-AC7B-2AD6FCDE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5B95-0743-4105-9963-659B564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49C4-D015-483D-BA3F-058BDCD6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B1AD-D30A-4A74-8244-D77B9C3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0955-1CE0-4ED6-AFB9-C44BAD05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A8B-AC01-4F80-9944-921A2B1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2630-1415-4231-83A8-3C1A597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4341-980E-4F5B-9CF7-F8205BE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C7B2-7AA8-496E-9E81-95CAB080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839D-7217-40EF-9159-4E32A450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094-AC9E-4685-B0BE-04DEE235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B96-9B2C-4626-B8BE-A3969A2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484-A855-4DA4-87BF-9B970730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ED8-58D9-4319-9047-F3A5BF6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2A5-760A-4ACD-B4B0-D69E21C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076-B54F-4C8F-B023-2790DB6D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D7D-B672-4E67-9394-B77F991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3B2-065A-498E-B92D-57AA865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E528-CB88-41E6-9073-4D21BDBFB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5988-D934-47A0-88D4-5B7344F51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Review of the United Kingdom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5A (Two Class Sess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ve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, David,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Jonatha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, Saul’s Son, Admire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8:1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ginning of Saul’s Jealousy and Hatred Towar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8:5-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Marriage to Saul’s Daughter, Mich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8:17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Afraid of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Attempts on David’s Lif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Begged Saul for David’s Lif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9:1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l Helped David Escape to Samu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9:8-24; Psa. 5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Warned and Protecte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20:1-3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and David Had to Separ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9:41-4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Ahimelech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, the Priest, Gave Both Food and Arms to David in No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21:1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ward, David Fled to G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1:10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id in the Cave of Adullam, Then Went to Moab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22: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Killed Ahimelech and the Priest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2:6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Stays On The Ru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Helped the City of Keil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Fled to the Wilderness of Zip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6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nd Jonathan Met for the Last Tim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15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of Ziph Betrayed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3:16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Stays On The Ru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pared Saul’s Life in the Wilderness of En-gedi – Cut Off Part of His Cloth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4:1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Plead His Innocence to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4:9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Di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Stays On The Run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sked Nabal For Help But He Refus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2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gail, Nabal’s wife, Begged For Merc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18-3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bal Died a Little L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Married Abigail, and Ahinoa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5:39-4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pared Saul’s Life a Second Time in the Wilderness of Zip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ook His Sword and Water Bott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6:1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Lives Among The Philistin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Lived Among the Philistines 1 Year and 4 Mont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7:1-1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hish Gave David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y of Zikl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, Achish Asked David to Join His Army – He Thought Saul Was David’s Enem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8: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Lives Among The Philistin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Gathered Against Saul and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8:3-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Consulted the Witch of En-dor and Talked to Samuel’s Spir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28: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Distrusted David, So Achish Told David to Go Back Ho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 Sam. 29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gainst The Amalekite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Found His City Destroyed By the Amalekit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0:1-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efeated the Amalekites and Recovered Their Families and Possess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0: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ent the Extra Spoils to the Elders in Jud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0:31-3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Last Battl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Defeated Israel at Gilbo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of Saul’s Sons Kil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Wounded By an Arrow and Fell on His Swor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3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of Jabesh-gilead brought the Bodies of Saul and His Sons to Bury Th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31:8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muel - The Last Judge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Wa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ders of the People Did Not Like His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said, “Give us a king like the nations around 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arned - You will work for the king, your sons and daughters will serve them, they will have an army, and you will pay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David’s Grief for Saul and Jonatha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ath of Saul and Jonathan Reported to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Grie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alekite Messenger Sla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3-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Song of Lament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1:17-2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 - The First King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the Tribe of Benjamin , Son of K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, Tall, Good Looking, Hum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and the Lost Anim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9:1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and Saul Me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9:11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Anointed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9:18-10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s of the Divine Confirmation of Saul as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0:2-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 - Saul’s First Victory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Selection of Saul by Lot as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0:1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ul Went Home to Continue Farm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0:26-2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First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ctory Over Amm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1:1-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dom Renew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1:12-1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uel’s Farewell Address to the Peop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 Sam. 12:1-2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Failures and Its Result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Threatened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3:1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Impatience Caused Him to Make Ill-advised  Sacrifi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3:8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Saul’s First Mistake - a Sign of Pride and Self-impor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nathan Victory Over the Philistin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4:1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Saul’s Failures and Its Results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Rash Curse and Its Consequenc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24-4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Mistake – Saul ordered the army not to eat until the Philistines were defeated; resulted in a death sentence for Jona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Battles and Success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46-5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God’s Rejection of Sau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Sends Saul to Destroy the Amalekites, and All Their Substan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1-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Mistake – He allowed the king of the Amalekites to live and took the best of the animals and goods in direct disobedience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Disobedience and Its Penalt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5:6-3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Saul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, Youngest Son of Jesse, Anointed K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6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, a good looking Shepherd from Bethle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irit of God Departs from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6:14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Plays the Harp for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. 16:16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vid and Goliath 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liath of Gath, a Philistine, Made a Proposition to Sau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Delivered Supplies to the Front L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12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Offered to Fight Goli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23-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Victor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Samuel 17:41-5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01:24:31Z</dcterms:created>
  <dc:creator>Don Vines</dc:creator>
  <dc:description/>
  <dc:language>en-US</dc:language>
  <cp:lastModifiedBy>Frank D Vines</cp:lastModifiedBy>
  <dcterms:modified xsi:type="dcterms:W3CDTF">2005-08-24T21:20:49Z</dcterms:modified>
  <cp:revision>30</cp:revision>
  <dc:subject/>
  <dc:title>No Slide Title</dc:title>
</cp:coreProperties>
</file>